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C53A-D485-4FCF-9ABC-3446A979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96BD-4375-4758-BF3A-472049FB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574-140A-45E6-AA3F-87D63338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832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80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548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832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80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6596-B41B-42BE-B66E-2E44498A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B85E-F016-4C50-9150-C7959934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4177-4498-48EE-BD66-861C7557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7E8A-3C1B-4D40-A4D3-CA4807CE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9A75-A345-4B1A-AFAB-00E5C59E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20D8-C867-4E62-B93D-BDC21FEB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F1D1-D757-4361-B160-95DED11D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999B-12D9-4A38-B174-C91011AD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A875-BFCA-4CF9-A099-AF5F6E79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8177-2A6C-4A8C-81E9-3B876DE7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5E81-C965-472F-A8BF-9C58841A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2F9F-4352-4070-A2C1-7A77C8A3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C93D-BCD0-41C9-BD08-342B6820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832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80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48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832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80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220B-1E57-4AB9-B284-BD1357DE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D7F5-57E3-48B4-93C3-8296C6EF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35F-BF19-48B4-9C1A-F23CD53A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B890-B47C-49A8-BEA6-019A2E29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217C-9005-453E-B096-30450AC9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60F-6087-446F-9CF3-A77A5314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FF2-5403-42B3-8BFC-24556EA7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07C-6EBF-42B4-B751-6D8E4B02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9053-5262-4A8F-9788-B2254A2D60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D22C-7F27-4F34-876A-B2177633F8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57720" y="1428480"/>
            <a:ext cx="562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85760" y="3071520"/>
            <a:ext cx="37004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5480" y="1357200"/>
            <a:ext cx="86439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06320" y="-6480"/>
            <a:ext cx="8242560" cy="1013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571400" y="1357200"/>
            <a:ext cx="73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im6-tub.yandex.net/i?id=313833065-30-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img1.liveinternet.ru/images/attach/c/2/73/317/73317663_1b8597b9ee0bt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rusforumz.com/library/template/fon/number/67-1.jp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5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828720" cy="927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"/>
          <p:cNvPicPr/>
          <p:nvPr/>
        </p:nvPicPr>
        <p:blipFill>
          <a:blip r:embed="rId3"/>
          <a:stretch/>
        </p:blipFill>
        <p:spPr>
          <a:xfrm>
            <a:off x="357120" y="242892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"/>
          <p:cNvPicPr/>
          <p:nvPr/>
        </p:nvPicPr>
        <p:blipFill>
          <a:blip r:embed="rId4"/>
          <a:stretch/>
        </p:blipFill>
        <p:spPr>
          <a:xfrm>
            <a:off x="357120" y="4429080"/>
            <a:ext cx="10238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03:48:09Z</dcterms:created>
  <dc:creator>Comp</dc:creator>
  <dc:description/>
  <dc:language>en-US</dc:language>
  <cp:lastModifiedBy>Comp</cp:lastModifiedBy>
  <dcterms:modified xsi:type="dcterms:W3CDTF">2011-07-28T03:54:40Z</dcterms:modified>
  <cp:revision>2</cp:revision>
  <dc:subject/>
  <dc:title>Слайд 1</dc:title>
</cp:coreProperties>
</file>